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FA0C4-34C6-48FB-86F7-78AA04AD31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34A6E-CA13-4AC1-9451-4A5EFED027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1D6C2-1CE8-4421-9681-9487065FF3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496CD-A120-480E-AD98-68141565A2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9ADAB-78CF-4B7C-B35A-45DFAE56B7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055E4-D2E7-45A1-BF91-E7C054050D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E57FC-09C0-4E9F-8652-5FCDD467A3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22042-E4EE-4A54-954E-2069CBDCEE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A319E-BF3B-40E1-8611-684BDF555A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FE4AF-21AE-4B62-9EBB-95696D0B89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4A2BB-C894-4504-A9C0-961A8AB1BE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E7B48-2468-4090-9D2E-41CD1CADB3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92D4-F6DA-4D0F-99E6-CA8FFE4DBE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16EB-F127-4CDB-8764-A66DF10B025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7720" y="26665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800" spc="-1" strike="noStrike">
                <a:solidFill>
                  <a:srgbClr val="000000"/>
                </a:solidFill>
                <a:latin typeface="Arial"/>
              </a:rPr>
              <a:t>Pursuing Broader Persp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Algebraic Thin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Breakout #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ere to sit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M 1D with MFM1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F 3M with MCR 3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BF3C with MFM 2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T4C with MHF4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4C73-F860-4B1F-A3EB-4A9A3D95EF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880" y="9140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plore connections between key components of algebraic thinking and proportional reas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nd key components of algebraic thinking and proportional reasoning in the curricul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examples of generalization and justification in student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connections between patterning and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FF50-9C76-4D82-B383-E642CAF58E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9614-909F-492B-96B0-65022A1463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ing half of a sheet of chart paper, create a Venn Dia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the Venn Diagram to illustrate similarities and differences between the key mathematical ideas related to Proportional Reasoning and Algebraic Thinking </a:t>
            </a:r>
            <a:r>
              <a:rPr b="1" i="1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in general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(not related to a specific cour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Think about: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nformation from our plenary sessions and the Big Ideas in the CAMPPP Program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521A-8EF6-4F94-AABA-4958812EB4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30FF-F942-4DDB-847A-9B888440F0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or a  course you are familiar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are some of the key ideas/topics related to Proportional Reasoning and Algebraic Thinking on your Venn Diagram – look for similarities/differ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ost your Venn Diagram when your group is 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Resources: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Hard copies of curriculum documents are available as well as on-line 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E451-DDA9-4351-BD8E-B191FFF136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141F-0C88-4B10-B389-05EADAD0A88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799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68160" indent="-62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discuss examples of Algebraic Thinking in student samples from the “Cube Sticker Proble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1304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 to Generalization Strategies and Justification Framework from Ple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13040" indent="-53352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ogether with another pair.  Share and compare your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8120-62D0-422C-AB69-97920E9D14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2BD7-EFE6-4ED1-BC71-39DD295335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1031"/>
          <p:cNvGrpSpPr/>
          <p:nvPr/>
        </p:nvGrpSpPr>
        <p:grpSpPr>
          <a:xfrm>
            <a:off x="4876560" y="1523880"/>
            <a:ext cx="3505320" cy="1066680"/>
            <a:chOff x="4876560" y="1523880"/>
            <a:chExt cx="3505320" cy="1066680"/>
          </a:xfrm>
        </p:grpSpPr>
        <p:sp>
          <p:nvSpPr>
            <p:cNvPr id="74" name="AutoShape 1032"/>
            <p:cNvSpPr/>
            <p:nvPr/>
          </p:nvSpPr>
          <p:spPr>
            <a:xfrm>
              <a:off x="4952880" y="1523880"/>
              <a:ext cx="3429000" cy="838080"/>
            </a:xfrm>
            <a:prstGeom prst="cloudCallout">
              <a:avLst>
                <a:gd name="adj1" fmla="val -23379"/>
                <a:gd name="adj2" fmla="val 4299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033"/>
            <p:cNvSpPr/>
            <p:nvPr/>
          </p:nvSpPr>
          <p:spPr>
            <a:xfrm flipH="1">
              <a:off x="4876560" y="2286000"/>
              <a:ext cx="6094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034"/>
            <p:cNvSpPr/>
            <p:nvPr/>
          </p:nvSpPr>
          <p:spPr>
            <a:xfrm>
              <a:off x="5410080" y="175248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99"/>
                  </a:solidFill>
                  <a:latin typeface="Arial"/>
                </a:rPr>
                <a:t>Work with a 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C06A-6C11-4EE0-9BB4-94F96CB868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9682-C771-4045-A650-8650C877FA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30"/>
          <p:cNvSpPr/>
          <p:nvPr/>
        </p:nvSpPr>
        <p:spPr>
          <a:xfrm>
            <a:off x="457200" y="1371600"/>
            <a:ext cx="822960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 Modelling Activity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~ 3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ally, work through the hando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CA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Modeling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 Quadratic </a:t>
            </a:r>
            <a:r>
              <a:rPr b="1" lang="en-CA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Functions with Square Tiles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hare your insights, ideas, and questions with your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erspective Passport / Math Map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dividually reflect on your learning and next st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rd in your Passport or on your Math M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590F-8D6B-4314-83FC-9178084FCE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E1AE-1EE9-442B-9E1D-DD2610FFF8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Z:\Clip Art\Travel &amp; Leisure\Vacations (F - Q)\Map.wmf"/>
          <p:cNvPicPr/>
          <p:nvPr/>
        </p:nvPicPr>
        <p:blipFill>
          <a:blip r:embed="rId2"/>
          <a:stretch/>
        </p:blipFill>
        <p:spPr>
          <a:xfrm>
            <a:off x="7086600" y="1752480"/>
            <a:ext cx="1227240" cy="1141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Z:\Clip Art\Travel &amp; Leisure\Vacations (F - Q)\Passport 1.wmf"/>
          <p:cNvPicPr/>
          <p:nvPr/>
        </p:nvPicPr>
        <p:blipFill>
          <a:blip r:embed="rId3"/>
          <a:stretch/>
        </p:blipFill>
        <p:spPr>
          <a:xfrm rot="21444000">
            <a:off x="6095520" y="1218960"/>
            <a:ext cx="838440" cy="109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79AC-AAAA-4069-8FCC-22B14BEDE4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301A-3015-49F5-8C22-357FD4A84D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80880" y="68580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solidate:  Feedback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ink about a question you have from tod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’m wondering about….”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”I’m confused about…..”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would like to learn more about…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 it on a sticky note, and attach it to your gly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agrafton</cp:lastModifiedBy>
  <dcterms:modified xsi:type="dcterms:W3CDTF">2011-08-18T00:50:57Z</dcterms:modified>
  <cp:revision>26</cp:revision>
  <dc:subject/>
  <dc:title>&lt;Title&gt;</dc:title>
</cp:coreProperties>
</file>